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3FDB-CD76-42CA-AD96-1F51048A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D97B-7CA2-41FD-9DB8-DF2863CB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C618F-ADDA-4FBA-A9F9-61F59E05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43ACB-93B1-47EA-9DEE-6B472B92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8C011-6816-4087-A35B-B4F4719A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D7D4C-62DF-45B5-8ACF-EF1A45B7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C6B83-DCA1-4647-9517-38DF388C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07DCF-41E9-458B-8766-28B54ADC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A1080-FF77-4C9E-87C8-0CF7CB3E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56405-275F-4CC6-8D8E-502FC973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F3C45-7180-4106-8855-8429F359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31842-3C67-4097-BB19-5A7E8C9F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4EB4-FD2B-4901-B359-076D0ED2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7639B-89B5-4CFF-8FC8-F7782247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1F8BA-3FF4-4DF7-9A49-08F9D602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7F2D2-F54C-4684-B2D1-080CB803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6F82E-E4D6-45F8-9429-12D7E124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3D2D8-19E6-4C6D-BCB0-6045241D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8FE7C-9112-4C45-92AF-0B6933D8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CB937-05BA-4840-9111-163257A0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F9751-494D-4EDF-B0BA-672A93B5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8D221-4D05-4455-9F7D-CF610532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1099F-FB39-4024-AB76-9A55A9DE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796-F5C1-4EDB-91F5-175259F5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80D6B-9036-4AE4-9D4F-53E8FF56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2F58D-0A01-45D2-91B5-6A8BF1C9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8E161-CD5A-4CF7-B33B-E31B0CF7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C8F58-EECE-423B-981B-B2CEAFF2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82591-7E43-491E-AE1A-8A639F76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EE30B-4AD1-471E-AC8B-F80C42AD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A591D-CB2E-4A7F-82DA-F93CF84A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FE041-D4FB-42A5-A6F8-B0CA0F81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5BF68-57BF-4DB5-8887-F7D6ED67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C8CF4-5A77-4904-9318-7309B82C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C8E6-2047-40FB-B8B5-6A0385A4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103DF-A91D-413E-B7F0-3259407F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0D47C-70AE-4D2A-B1ED-EB2D468B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75258-57DA-4AA6-8306-BAA97CFC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73283-B835-4EA8-AAFB-953EACE0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73500-97AE-4250-9593-79977B71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0914F-28F6-44D1-86AB-6D957639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DEC8F-42F2-4BC7-80AF-57E478FC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ECEE0-0758-4B2D-81A8-BF6B80FD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18B9D-2224-4987-AB91-EE76BE02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65449-1A08-4EAF-B512-C3D82DFC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0DA3-2F67-4066-954E-A5B21A63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29A20-1056-4FC8-A2AE-A1C10CF5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0738B-B1A3-4AE4-A003-47F6C659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05E29-E89B-4D81-8F0E-A461CFE2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297FA-16EB-4735-8313-6BEE32C9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77162-04AD-4F70-867C-5FF7ED6E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3F90-660E-408F-8A07-911A5A58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931F-43CE-42FC-B19A-2451C234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C9E2-90BA-4000-A2D0-0CEA2B43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CEAC-1FF7-4BCD-AB55-C40CF681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2939-CAED-4A46-AD39-741C40F8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F39-6CF8-4D58-AFB8-74AB4811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6F89-528A-41CE-8776-08A23FD8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5483-60BB-4A79-A354-06277BD5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AFF9-D4CF-4549-8517-4F2E61FD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CB4E-7390-4F9E-99C3-DE70B094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9207-2E18-4E6B-97F2-D8FBBB40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39F28-7ED1-4C6A-95D3-40E73A1D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223EC-C091-496A-8EC4-6844E3DA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3AC15-094F-4FCD-8767-636FB2B9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7E1C7-FAD1-4981-AF02-6ED89DF3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5CCBD-3339-4B34-B7C0-B3D5EE06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AEB1-82B2-43AB-BE6F-2A99B5F2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68D48-0B82-4B53-8365-AF3CCA69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F20CF-B53B-4A4F-AEEE-05602F32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FD442-D78C-49AB-96E1-BDE508AE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6BA23-641A-4FD7-8D10-62F25187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78645-ACD5-4594-BE0A-EA11EA6A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AFF6A-3EEF-4F44-9498-D88ADB9B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C563C-E260-4F14-96C2-36A48895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82F08-C98F-491C-A15E-404D366B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326CB-9064-46DF-9940-62F25641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A2EBF-B91F-4DCD-B26A-C86B66D6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C7C0-6D9B-42B1-8243-A529599E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58C18-5858-403E-B3D4-920EC02F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070F2-48A0-49BB-9F10-93CF2AF6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1452E-344E-4509-998D-9FC37121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F475B-78CC-4221-A092-3CB5EABC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BDC73-9C1E-4E82-BE94-5095C600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F8F76-163B-4AA6-9F23-9918302E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2FCA7-2C33-41DA-BA29-F94406C7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31773-97CC-4A99-9BF9-6811DC00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B124B-7707-4261-AF8D-F2E0E2A2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479A0-5792-409B-81B1-6EB02A29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BD7-0926-4F5D-B1FA-B6BAEB1B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5EFF3-2F92-4A7D-9618-C2E73750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39EC6-6BA4-4283-91A4-E42B3E40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DE45F-72AA-42E1-A0AF-60163541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F396F-D578-4C28-B9EE-65EA9969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178BE-64CA-42A2-8EA2-480A5F49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2D2CB-DC73-4124-BBC4-5AB5BD17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2E2AF-6110-4CBE-A76C-62B135B0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240F9-0711-4072-97D4-CBEF4FDF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27D88-FBA6-4A17-80AA-1DD50170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F5F2D-07BD-45A2-9451-5FEA3153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63F-C213-4227-9333-E460B8D7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F35D9-61C5-454C-B275-DEEC1365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1C418-614C-41AD-8BA1-15C98E94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6718A-7DDC-4618-BC20-527DD98E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47065-ED90-47BC-8D4A-0E708506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5D2E5-C5B1-428A-A80C-E426FAFD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34C42-0F7B-49BC-8BA3-950D5037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0C0ED-2854-4E93-830C-14868981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8A31C-1CCD-4ECD-9DF8-EC3C4283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CFD04-342C-40E2-8245-5728CDBF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3BB29-4CD4-4F4E-9592-DC98B37F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0094-2175-444A-8093-A60EB1D4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CF54F-B800-4AD3-BC98-4D2369C5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D4D84-9087-495A-B549-F7B1A4F4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BD516-90B6-4E9C-82CF-DC6F4795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DAB72-F2F5-4AD1-8F22-CA2CA524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79E3D-F78D-446E-871E-D0BE6735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93D4A-F614-4BC2-8208-1C0D8726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5C124-195E-4263-AF8E-76216421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8128E-5418-4DA4-BE1B-305B7BEE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FB53D-276C-4CEC-AD74-11413491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9D01B-AF59-424E-9FD6-A0B505A2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4503-980A-4B15-8605-79E57C6F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AD8E7-2360-4376-B937-338735C4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1F4B6-28C0-4210-B062-D38C6213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562D3-B900-4FF3-AD59-00956CCB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2264B-84C0-4021-9C19-178F3B94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F49AA-4CF4-4258-9439-7AF06B5C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7EF04-3836-4DBD-8509-702F4367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F554B-4408-44C7-AAFA-0745B037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BA8E1-CD15-40FA-8C6A-9E168B23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0D53D-5294-4571-A0CA-A9DFA7EA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21A0E-4C27-4901-B0EA-E180AC46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C451-7CDE-4678-AD12-8E1C2728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1D71C-1537-4FF4-BE3C-DD870CA2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0FBCC-6F79-4B19-8F69-6F86716E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30868-9F71-495C-96E3-53938DDA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E8331-18EE-40CC-8A44-2DBF7999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DB103-069B-42C1-B053-C9B04E24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47FDA-A741-4031-BAEE-33429F7B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DC750-DB49-453D-88CB-D0AB509B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B7D8A-1AC0-4431-BEA6-02A24192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23AD9-FADC-4BB8-B3BB-2B76BC19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435CD-8387-4B25-A73B-7EF07555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EB33-5900-41BC-9309-F4AA683B0F4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09A8-11B4-4A83-AC34-8787C8A92E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DE33-26C9-47DA-A406-B486AA06AE9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ECBE-3999-407C-9720-5735953676C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15C0-8623-48A5-AA92-FB355ABA820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7580-0115-43F8-A244-1276B942224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C541-5910-478B-848E-51D542AC85A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8E1A-DF05-4D7A-8FDD-EAFC27731C7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57B7-2AF3-4BB8-B2B0-251D4E7CFA9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4BD4-FEC8-4AA6-8FCA-73672F896BC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200D-F314-4FEC-AC59-7E2DA4F3379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762D-E858-4CAA-8B82-AC4D30932DC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36 Tak mnoho prác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je vôkol ná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zlomnou vierou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ľaď stále na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vedkom lásky jeho sa staň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 celý, stíš 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uj Boží hlas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Je doba vzácna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milosti ča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mnoho práce je vôkol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atva sa blíži, dozrieva k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ltnúce lány zvestujú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skoro príde náš drahý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 celý, stíš sa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uj Boží hlas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doba vzácna, je milosti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Božej láske šíri sa zv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svetlom pravd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ľudí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ľutuj času, neboj sa strá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znamuj spásu, pomáhaj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 celý, stíš 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uj Boží hlas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Je doba vzácna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milosti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o, čo ľuďom sľubuje sve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klamné zdanie,vädnúci kvet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rvá len Božie zasľúbenie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v Boha dúfa, nezahy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 celý, stíš 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uj Boží hlas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Je doba vzácna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milosti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 si ho prijal, šír jeho č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olstvo vzácne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š svetu niesť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6:00:31Z</dcterms:modified>
  <cp:revision>41</cp:revision>
  <dc:subject/>
  <dc:title>Je veľký náš Pán, on slávy je Kráľ Nech do všetkých strán  spev vrúcnych znie chvál.</dc:title>
</cp:coreProperties>
</file>